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81D-B034-4C38-9A0A-89D09A88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52D-2E96-4271-892F-02D6CC93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372-F8EF-4D6F-B733-7980F016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365-AB5B-4411-A4A8-DFAA5877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FCE-1A35-47DA-BCC8-109A9E05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CA7-85B3-4213-8D04-294B99F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43E-6B9C-49B7-9EFC-3F12731E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8A5-07E4-45B3-8A54-48A20B5D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BF1-46DB-48FF-AC27-E089E31F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0BA-ABE3-447A-938F-042D33A5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51F-89F5-4909-B72A-2F950443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86E-6501-461F-A9CF-FDC993BB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F45D-B8D2-4037-832A-F5FAAA156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waiipictures.com/pictures/index/module/media/category/gallery%7Crainbows/pId/102/id/471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awaiipictures.com/pictures/index/module/media/category/gallery%7Cbeaches/start/0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awaiiactivities.com/us/hawaii/oahu/sg/1140/ag/6241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My Dream Tropical Vac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By: Ashley Nix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523880"/>
            <a:ext cx="82296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The location of Hawaii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is soooo amazing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especially across the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big blue, because I do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like for a long time and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very far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Search Hawaii Real Estate and Homes Here!"/>
          <p:cNvPicPr/>
          <p:nvPr/>
        </p:nvPicPr>
        <p:blipFill>
          <a:blip r:embed="rId1"/>
          <a:stretch/>
        </p:blipFill>
        <p:spPr>
          <a:xfrm>
            <a:off x="533520" y="1752480"/>
            <a:ext cx="4114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The beaches in Hawaii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are so beautiful and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very peaceful to me. I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just want sit there and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glaze into the water.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The water has a very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beautiful color and the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sand does also!!!!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ountain Pictu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76520"/>
            <a:ext cx="4495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4" marL="1748520" indent="-19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Monotype Corsiv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                                          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Under the warm Hawaiian sun, with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the tropical breeze on your face and a  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picture perfect landscape in front of you,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tour some of the best Hawaii spots by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bicycle! From the slopes of Mount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Haleakala, to the rugged terrain of the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Kilauea Volcano or the cool and verdant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scenery of Oahu's Tantalus, these tours 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give you the opportunity to experienced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the fun and excitement of bicycling, all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the while enjoying a beautiful day in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Hawaii’s out doors   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Hawaii Bike Tour - Oahu Mountain Bike Adven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752480"/>
            <a:ext cx="3733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The weather in Hawaii is always nice and hot most of the time. My favorite season is summer, so I like it hot all the time. I really don’t like being cold. That’s one of the reason why I like Hawaii so 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16:44Z</dcterms:created>
  <dc:creator>768984</dc:creator>
  <dc:description/>
  <dc:language>en-US</dc:language>
  <cp:lastModifiedBy>768984</cp:lastModifiedBy>
  <dcterms:modified xsi:type="dcterms:W3CDTF">2009-01-23T17:27:39Z</dcterms:modified>
  <cp:revision>2</cp:revision>
  <dc:subject/>
  <dc:title>My Dream Tropical Vacation</dc:title>
</cp:coreProperties>
</file>